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A0E-56A9-4133-B93E-97223BBC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EEE-A840-48CA-BCB0-1EBF366E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25F-9DE2-4664-AC42-DB7C0520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84B-2571-4300-BAEA-74197C7D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1B873-C798-41C4-9FD5-61D162A00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55AC-C4A7-46EC-A3DD-20BE830DF2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AEAFB-2F65-435A-A986-A084D1EBD6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7092-F435-4A29-8ABB-AEB812A7C8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8F57A-47C7-46DE-A967-D34B451523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27817-E850-4289-AC3E-D5D07CDDE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49C3F-5116-4B58-A199-CE801A10F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0C5-83AC-47FE-BE3E-DBC5920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94831-3BE5-4A14-9FC5-AA998AC4B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569ED-3B6C-400A-B1D6-B1E5A53251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579F-932F-4339-9D4E-1F77424D20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ADF47-140F-4F17-B1B9-C8A27B79A4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FF1EF-D3D9-46FE-A1B5-470BD27CF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516-1190-4FC4-92BE-2877DB07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409-D90E-4FC6-8446-23BBB0D7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670-672F-4179-AC49-8838F553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DD2-1048-4F93-A29B-C079B952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3C6-B779-427B-B396-64A1D1F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5D9-A3B4-4B7B-AA99-A0958C4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0ED-637B-4D2A-886F-2D63CC6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D821-8B44-49BE-9333-6E27D634A1A5}" type="slidenum"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1E2-9FC0-48E7-80A4-9D4267323DB5}" type="slidenum">
              <a:rPr b="0" lang="en-US" sz="1000" spc="-1" strike="noStrike">
                <a:solidFill>
                  <a:srgbClr val="cc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ec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quiry Science and the 5-E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nhandle Area Educational Consortiu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53 West Boulevar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ipley, FL  3242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paec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describe what they see and offer explanations of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elps students make sense of observations and questions that a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introduces scientific explanation for the event through direct and formal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and teacher identify common terms for experiences and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facilitates students in developing understandings of concepts and ideas that are broader and more in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engage in cooperative group work on new activities that relate to the original learning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present and defend their understandings in cooperative and whole clas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what has been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eacher, group or self-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tools may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assessments that are formative or summ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in, A., Bass, J., &amp; Contant, T. (2005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thods for teaching science as inqui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Upper Saddle River, NJ: Pears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Jarrett, D. (1997). </a:t>
            </a:r>
            <a:r>
              <a:rPr b="0" i="1" lang="en-US" sz="2000" spc="-1" strike="noStrike">
                <a:solidFill>
                  <a:srgbClr val="e4e4e4"/>
                </a:solidFill>
                <a:latin typeface="Arial"/>
              </a:rPr>
              <a:t>Inquiry strategies for science and mathematics learning</a:t>
            </a: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4e4e4"/>
                </a:solidFill>
                <a:latin typeface="Arial"/>
              </a:rPr>
              <a:t>Portland, Oregon: Northwest Regional Educational Laborat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quiry Scienc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4267080"/>
            <a:ext cx="6705720" cy="1923480"/>
          </a:xfrm>
          <a:prstGeom prst="rect">
            <a:avLst/>
          </a:prstGeom>
          <a:solidFill>
            <a:srgbClr val="e4e4e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quiry is the set of behaviors involved 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truggle of human beings for 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explanations of phenomena 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which they are curious.”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WREL, 1997)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660680"/>
            <a:ext cx="7407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ce instruction that involves students in active learning.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hasis is placed on: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ing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20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s Engaging in Inqui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1600200"/>
            <a:ext cx="8076960" cy="4648320"/>
            <a:chOff x="609480" y="1600200"/>
            <a:chExt cx="8076960" cy="4648320"/>
          </a:xfrm>
        </p:grpSpPr>
        <p:sp>
          <p:nvSpPr>
            <p:cNvPr id="87" name=""/>
            <p:cNvSpPr/>
            <p:nvPr/>
          </p:nvSpPr>
          <p:spPr>
            <a:xfrm>
              <a:off x="609480" y="3124440"/>
              <a:ext cx="307260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mmunicate investigation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ocedures, data, and explanations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other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1480" y="5334120"/>
              <a:ext cx="307296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se evidence and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ientific knowledge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develop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explanation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55400" y="1600200"/>
              <a:ext cx="307296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sk questions about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objects, organisms,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events in the environment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87160" y="5257800"/>
              <a:ext cx="307260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se appropriate tools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 technique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gather and interpret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13840" y="3124440"/>
              <a:ext cx="3072600" cy="914400"/>
            </a:xfrm>
            <a:prstGeom prst="ellipse">
              <a:avLst/>
            </a:prstGeom>
            <a:solidFill>
              <a:srgbClr val="0033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lan and conduct 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imple investigations</a:t>
              </a:r>
              <a:endParaRPr b="0" lang="en-US" sz="1100" spc="-1" strike="noStrike">
                <a:solidFill>
                  <a:srgbClr val="ccffcc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57600" y="3122640"/>
            <a:ext cx="176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ce as Inquiry</a:t>
            </a:r>
            <a:endParaRPr b="0" lang="en-US" sz="2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038480"/>
            <a:ext cx="762120" cy="129564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80720" y="2209680"/>
            <a:ext cx="1219320" cy="91440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867280"/>
            <a:ext cx="838080" cy="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120" y="4038480"/>
            <a:ext cx="838440" cy="121932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2209680"/>
            <a:ext cx="990720" cy="914400"/>
          </a:xfrm>
          <a:prstGeom prst="line">
            <a:avLst/>
          </a:prstGeom>
          <a:ln w="22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Doing Science as Inqui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at every grade level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and engaging in scientific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riority to evidence as they plan and conduct             investigations using appropriate too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ing critically and logically about the relationships between evidence and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nd analyzing alternative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ng scientific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Doing Science as Inqui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how to focus, challenge and promote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decisions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initiate inqui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encourage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ctivities should be small group or whol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onfront miscon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guidance should be offered in th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developed by Biological Sciences Curriculum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model of science instruction relevant to teaching science as inqui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objectives, specific concepts and explanations for student learning are identified by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 preparation by the teacher to provide expository instruction regarding specific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PHASES OF 5-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that initiate learning and stimulate curi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connect to relevant past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include asking questions, posing a problem or acting out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-E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have a concrete physic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for kinesthetic lear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observe properties, establish relationships, note patterns and ask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guides, coaches and facili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65070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Carin, Bass &amp; Contant, 2005)</a:t>
            </a:r>
            <a:endParaRPr b="0" lang="en-US" sz="1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9:52:32Z</dcterms:created>
  <dc:creator>Brenda Crouch</dc:creator>
  <dc:description/>
  <dc:language>en-US</dc:language>
  <cp:lastModifiedBy>meng</cp:lastModifiedBy>
  <dcterms:modified xsi:type="dcterms:W3CDTF">2007-05-23T13:21:17Z</dcterms:modified>
  <cp:revision>3</cp:revision>
  <dc:subject/>
  <dc:title>Slide 1</dc:title>
</cp:coreProperties>
</file>